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C7E-91A5-4507-90CA-510E4CE9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C59-F763-4ADF-8E8A-440B8C5E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F39-9FC8-411D-A8C1-052D6DE8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F8A-E22F-46D4-BC2B-1BB6DF57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4DC2-ED2B-47AB-B5B3-FF3BF4E8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16B7-8918-43FC-AFDE-AA2D4A10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5A2C-967A-4E01-85A7-5703029F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D00E-A684-49D0-907E-C93C0B31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B7EA-EEFE-481B-9034-0FB155C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063-CCF3-4BDD-8A09-0B824AF5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E4AB-322B-48AA-A10E-D32781E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386-CB53-4818-981F-AB7D5AEB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12FD-1A04-48F0-BE3C-BD1E27F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2EF5-ED8D-4513-B514-1D8F882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7BE-CE4A-40D8-8AE0-5ADF700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FE00-8FF3-478C-ACA2-B66EBD51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4D7-963E-490C-BC68-5ED46ADB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14E4-5836-4489-BB8F-503D4C0E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0256-D680-4D58-980A-4B7D36C2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A5FF-203D-4911-B359-60B8D2F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A4C0-3ADA-4222-BE6B-DCD4EDE0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0A20-A947-4FDD-BD1F-AB20F760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628-6A52-4A52-B2A9-4EF05466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0737-BF21-44D2-B3C6-1C3C2F6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4DBB-087F-4A3E-BFA8-D855507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FDA3-8DE9-462B-8F36-43CA040C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EA6C-9705-43C4-8870-E97D79A7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09ED-BF7D-4695-9D76-D7E84D0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D0C2-7466-41DD-BDFD-44BF7AA2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B697-9496-466B-9D84-8CB2A806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B82D-4642-46B5-9F44-39251D70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9AEF-8C3B-4F10-B795-ACBD9284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AC24-6092-434F-AB2F-DE522FAF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DF5-13E1-4188-A3AC-5B047F3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B7E5-7481-4D45-9974-E949364A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2FCB-6A4C-4769-A687-38E29625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349C2-D19B-42BA-B503-5D19C17A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8417-7794-4364-B614-CCFD190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5D21-904A-441C-9852-C2D3C23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885D-2307-45E7-B72E-B1C4291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3CD8-FA83-450A-80B7-83A37EFD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2C6C-4868-4B85-B0B5-546D277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D19D-6CDD-4001-BDE1-957224A4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97BFC-DB21-496A-AA38-EA78A8DB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2A2-0464-4B49-A713-6A16688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D356-04B0-47B9-91EC-BE963C8B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EDBB-5969-4066-8097-D28402CE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CB367-73BC-4238-B372-71FDFB4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D2B5-35EE-4B35-96C7-0A8F319C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F4E3-4190-491F-A7BF-FE3C945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FFF3-F413-4FCC-83EE-44849D1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9D82-8DAB-4E4C-BD59-24AB295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1D2E0-8739-4177-8FFD-3539E90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C371-F019-43C0-9953-248FFACE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F15B-7C56-445E-9BC7-FC4D6089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4F8-1545-43E5-88A3-4E1A7E85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A7A02-BBBB-4369-8984-7CC93F2E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F0387-EF52-447F-9673-4F30C92D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16AB3-584C-45F3-B1B1-B9754CB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4B9F-5E15-408C-8F0C-F67E764E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746D7-3FA7-4E7D-9307-B0537A39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2E9F-3DE4-4F78-848B-C89D276E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B9608-D96E-4048-95F2-6F949AF3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C3B6-716C-471A-9E9E-13ADB99C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8569-3979-4E05-BE76-EC0CFE5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9B8D0-FE81-45E2-87C7-9B0F1DC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7ED-B834-4A16-B5D2-A7FF66B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4E74-96F6-4D10-8559-2B4E46A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7081F-01CF-45E2-8E31-DD938107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BE97-B7A3-40FB-8E7E-FB438321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2AFD-FCE7-4A74-B671-2B5AFA4C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E930-2044-4599-8CEC-2877A8E9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B9CB-1C7D-4ED3-A0DF-34C7EE54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B6945-DB0E-47D3-81B4-AE06C745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AABD-2B19-4603-95E0-6DFBEA2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ADE2-37C1-4A72-A894-8DA399D1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2E0A8-8B6A-4812-BC71-3553055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274-50B1-4AB2-BA6C-713B6FF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DC3E-D16C-4F43-A919-C25BE98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CBF9B-813A-42FB-B5E4-91CEF3A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0F8B-0829-4C37-93B9-311B238D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BB97-2A26-4FE6-B167-EC426F36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6BCCB-A9FF-4721-9312-DFE73259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F0ED7-5C9C-419C-877E-17945B34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59AB-6C0B-4ECD-9C36-D27CFDE7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BA6C-0B2F-4C23-A781-6EE79AB6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00171-254D-425D-95E2-00181B9F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34368-CEA4-47F3-9505-813E6E9A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651-FF63-44FB-BF8D-4AC12A1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7652-5E12-436A-8F5B-10CCBE6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7F69A-5C3C-425D-AA1A-EA3C064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7E38F-65E0-413A-81B1-A5E8464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B297-7858-4EEF-AB38-22416F1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BD4E2-0C4B-4A6C-B69D-4B11866F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E2E92-50C1-4444-B1A4-1738D147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B16BF-4871-4193-A9B0-AC67F8F3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D52-240E-4B06-8630-EC16F824801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8397-8279-4C05-9F90-3EF00833AC5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29D-AFA5-4C8A-9DE8-0705AC381F0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9059-708C-4E42-886E-86F6F176D85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274B-6885-4757-9CEB-4D5C426635B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865D-04CE-4765-8A01-82FCF058CD6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D4D5-1D7F-4090-8916-D767D653864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47C-4B64-4684-9C72-588836A4C5B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5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8.1% of O’Gorman students scored a 4 or 5 while only 25.8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84.4% of O’Gorman students passed the test while 56.2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1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44792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Van Engen, Jason</cp:lastModifiedBy>
  <dcterms:modified xsi:type="dcterms:W3CDTF">2015-07-30T22:48:12Z</dcterms:modified>
  <cp:revision>25</cp:revision>
  <dc:subject/>
  <dc:title>2011 AP English  Literature and Composition Results</dc:title>
</cp:coreProperties>
</file>